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675-15B2-414B-9C4C-B716E2C0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09C-73E7-4B69-8A33-EFD839D4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199-1535-48AA-BA2D-5AD0CDF7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19B-5C88-45D0-A243-6C8AF139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2509-B480-49D2-BDAA-0F1D91C0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F838-07D7-4E3A-AEAB-19B5D807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466E-CB7F-4848-AC66-A03CCD50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2D57-AB83-4E8F-A76C-992FDCBF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D886-1BC8-41E2-9C2F-27D00C33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8819-3FEF-424F-94D4-5E3D18E8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0E1D-E0A1-4087-9864-B1E41425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308-DF4A-4CAF-9357-0504D572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33AD-3548-4115-8BD1-D77903B4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D568-CAAA-4B2E-8F4E-916604A1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1740-105A-42D3-8BAD-6A80AC07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DA11-864D-4B3D-AF14-64CF1B11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B506-21D7-45A9-ADE3-99D9BD5D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812-E626-480C-A3C8-B117EA5B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9B0-39A3-4EBD-BEC4-F5420F94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A03-4B5D-4BBC-A11B-F5F066B0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6B0-5F9D-4E4A-9BC7-C561BB24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36A-B315-4052-8469-6DCBED8A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200-4629-4956-AC3F-3623F91E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711-51E0-41D2-BB05-30A63AF9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5A17-7DAA-409A-85E8-915982E7BA49}" type="slidenum">
              <a:rPr b="0" lang="bs-B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5543-BCD5-416C-B7C3-6BF4A5BB955D}" type="slidenum">
              <a:rPr b="0" lang="bs-B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bs-BA" sz="4400" spc="-1" strike="noStrike" u="sng">
                <a:solidFill>
                  <a:srgbClr val="000000"/>
                </a:solidFill>
                <a:uFillTx/>
                <a:latin typeface="Arial"/>
              </a:rPr>
              <a:t>omeopatij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f. Dragana Ignjatović Rist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800" spc="-1" strike="noStrike">
                <a:solidFill>
                  <a:srgbClr val="000000"/>
                </a:solidFill>
                <a:latin typeface="Arial"/>
              </a:rPr>
              <a:t>Treba znati d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ija leči bolesnika, a ne obolele organe; otklanja uzrok, a ne samo posledice bole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ija nastoji da kod bolesne osobe stimuliše lični, prirodni kapacitet samoizleče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ski lekovi deluju tako da pomažu u samoodbrani organizma. Oni</a:t>
            </a:r>
            <a:br>
              <a:rPr sz="2400"/>
            </a:b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nas „pelcuju“ protiv bole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ija shvata bolest kao posledicu poremećaja u samom telu. Telo ima prirodnu odbranu koju homeopatski lekovi mogu stimulisati da bi izlečila</a:t>
            </a:r>
            <a:br>
              <a:rPr sz="2400"/>
            </a:b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određenu bolest, homeopatija nužno ide do samog njenog izvora.</a:t>
            </a:r>
            <a:br>
              <a:rPr sz="2400"/>
            </a:b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Homeopat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ija nastoji da vrati poremećenu ravnotežu pacijenta upotrebom odgovarajućih prirodnih prepar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Otkriva i primenjuje supstance koje su istovetne u rezonancijskim vibracijama tela, pa je potreban minimalni nivo vitalne energije, kako bi telo uopšte moglo da reaguje na homeopatski tret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Homeopat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Klasična homeopatija uzima u obzir emocionalna, mentalna i fizička svojstva</a:t>
            </a:r>
            <a:br>
              <a:rPr sz="3200"/>
            </a:b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pojedi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Na osnovu potpune slike odlučuje koji lek treba odabr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Homeopa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Uzima u obzir nivo energije pacijenta i način na koji osoba reaguje na okoli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Arial"/>
              </a:rPr>
              <a:t>Homeopat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su zainteresovani za razumevanje funkcija na mentalnom, emocionalnom i fizičkom nivou oso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Neispoljeni emocionalni stres može prouzrokovati probleme u imunološkom sistemu, sistemu za varenje i tegobe u spavanju i komunikac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S druge strane, fizički problemi rezultuju emocionalnim nemir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Uopšteno, svi predstavljeni problemi pacijenta, uključujući i bolest kao glavni problem, sklonost određenom ponašanju kao i pacijentove osobine, bitni su simptomi u homeopatskoj analizi. </a:t>
            </a:r>
            <a:br>
              <a:rPr sz="2400"/>
            </a:b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4000" spc="-1" strike="noStrike">
                <a:solidFill>
                  <a:srgbClr val="000000"/>
                </a:solidFill>
                <a:latin typeface="Arial"/>
              </a:rPr>
              <a:t>Homeopatska met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Primenjuje prirodne preparate koji u prirodi izazivaju simptome slične onima koje izazivaju bolest koju želimo izleč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Slično se leči sličnim (</a:t>
            </a:r>
            <a:r>
              <a:rPr b="0" lang="bs-BA" sz="3200" spc="-1" strike="noStrike" u="sng">
                <a:solidFill>
                  <a:srgbClr val="000000"/>
                </a:solidFill>
                <a:uFillTx/>
                <a:latin typeface="Arial"/>
              </a:rPr>
              <a:t>Similia Simillubus Curentur</a:t>
            </a: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Arial"/>
              </a:rPr>
              <a:t>Hahnemann's conceptions, explanations, and appraisals were not static but evolved and hardened over the years, especially from 1796 to 1810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8720" y="-30240"/>
            <a:ext cx="47545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Nesanica se leči preparatima od crne k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Kijavica, alergija ili prehlada pripravcima od luka (izaziva suzenje očiju i pečenje kao i navedene bole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Posebno, </a:t>
            </a:r>
            <a:r>
              <a:rPr b="1" lang="bs-BA" sz="2400" spc="-1" strike="noStrike">
                <a:solidFill>
                  <a:srgbClr val="000000"/>
                </a:solidFill>
                <a:latin typeface="Arial"/>
              </a:rPr>
              <a:t>homeopata 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u obzir ne uzima samo istoriju bolesti i lokalne simptome, već i razne reakcije pacijenta na boju ili vrućinu, razne vremenske uslove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Značenje simptoma u homeopati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Simptomi nisu činilac bolesti, već izraz otpora, nastojanje pogođenog organizma da prevaziđe probleme koji su ga obuz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Simptomi nisu dati nekom unapred određenom bolešću, nego su proizvedeni individualnosti osobe</a:t>
            </a:r>
            <a:br>
              <a:rPr sz="3200"/>
            </a:br>
            <a:br>
              <a:rPr sz="2000"/>
            </a:b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Arial"/>
              </a:rPr>
              <a:t>Osoba se leči kao celina, a propisani lek deluje ne samo na lokalne simptome, nego i sve druge simpt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Arial"/>
              </a:rPr>
              <a:t>Pacijenti su često iznenađeni kad prilikom lečenja i izlečenja glavobolje ili zatvora, dođe do izlečenja od stresa, preterane osetljivosti ili nadraže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Istor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ipokra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ко 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400. </a:t>
            </a: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godine pre nove ere, propisivanjem male doze korena mandragore za lečenje ludila (znao je da u mnogo većim dozama izaziva ludilo</a:t>
            </a:r>
            <a:r>
              <a:rPr b="0" lang="ru-RU" sz="3200" spc="-1" strike="noStrike" baseline="30000">
                <a:solidFill>
                  <a:srgbClr val="3366cc"/>
                </a:solidFill>
                <a:latin typeface="Arial"/>
              </a:rPr>
              <a:t>[12]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U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 16. </a:t>
            </a: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veku, Paracelzus, začetnik farmakologije, objavio je da čoveka leči ono ono što ga čini bolesnim</a:t>
            </a:r>
            <a:r>
              <a:rPr b="0" lang="ru-RU" sz="3200" spc="-1" strike="noStrike" baseline="30000">
                <a:solidFill>
                  <a:srgbClr val="3366cc"/>
                </a:solidFill>
                <a:latin typeface="Arial"/>
              </a:rPr>
              <a:t>[13]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Cilj lečenja u homeopati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Cilj nije otklanjanje simptoma, nego prepoznavanje i otklanjanje uzroka simpto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Pravi homeopatski lek je baziran na razumevanju celokupne osobe, radije nego na odgovoru na simptome određene bol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Arial"/>
              </a:rPr>
              <a:t>Homeopat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prihvataju da organi i funkcije ljudskog tela podležu određenoj hijerarh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800" spc="-1" strike="noStrike">
                <a:solidFill>
                  <a:srgbClr val="000000"/>
                </a:solidFill>
                <a:latin typeface="Arial"/>
              </a:rPr>
              <a:t>Homeopatska konsultac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i je potrebno da zna što više o pacijen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Opšti nivo energije, razvoj simptoma, način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Poverlj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Prva konsultacija obično traje jedan sat, retko du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Dužina trajanja homeopatskog tretmana zavisi od vrste poremećaja, težini, ali i od ličnim karakteristikama, nivoou energije i slič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Potrebno je uzeti u obzir vreme razvoja patolog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Odogovr se očekuje u prvih mesec dana (kod hroničnih simptoma). Kod akutnih- za nekoliko d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000" spc="-1" strike="noStrike">
                <a:solidFill>
                  <a:srgbClr val="000000"/>
                </a:solidFill>
                <a:latin typeface="Arial"/>
              </a:rPr>
              <a:t>Homeopat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Leči iznutra i često, spoljapnji simptomi (kožni simptomi)- posljednji nesta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Svaki slučaj drugačiji te da ne postoje dva ista pacijent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i je pored medicinske dokumentacije i rezultata dijagnostičkih analiza, neophodno da stekne uvid u psihičko stanje, navike, želje, sklonosti, ponekad i snove pacije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400" spc="-1" strike="noStrike">
                <a:solidFill>
                  <a:srgbClr val="000000"/>
                </a:solidFill>
                <a:latin typeface="Arial"/>
              </a:rPr>
              <a:t>ŠTA HOMEOPATA TREBA DA ZNA O PACIJENTU I NJEGOVIM TEGOBAM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U cilju nalaženja pravog sredstva za pacijenta kao jedinstvenu individuu, homeopata treba da sazna mnogo podataka o nje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Detaljno sagledavanje ličnosti pacijenta, zajedno sa sagledavanjem svih tegoba i načina na koji to doživljava, homeopati su potrebni da bi pravilno procenio sluč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Otkrivanje opšteg energetskog stanja pacijenta i njegovih ranijih tegoba važno je koliko i način na koji pacijent ž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Tokom intervjua postavljaju se pitanja o naslednim faktorima, opis životne okoline, eventualni kontakti sa raznoraznim opasnim materijalima, sklonosti, uticaj vakcina i ranije preležanih infektivnih bolesti, pojave tokom trudnoće i porođaja, pojava retkih i neuobičajenih stanj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Pacijent treba da obavesti homeopatu o svim lekovima koja mu je njegov lekar propisao i drugim lekovima i sredstvima koje redovno upotreblja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Treba da pomene bilo koju raniju ili predstojeću stomatološku ili neku drugu hiruršku intervenci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Iskren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Nije neophodno, ali je poželjno prikupiti medicinsku dokumentaci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a poštuje integritet i privatnost ličnosti pacijenta u vezi svega što mu pacijent saopštava u poveren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Često se pacijentima objašnjava da dođu pripremljeni na uzimanje slučaja: da se sete svojih snova, hronologije događanja od ranog detinjstva, povreda, ružnih događaja, teško preležanih bolesti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8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sko lečenje je dobro za stimulisanje  energije  i postizanje  ravnoteže  unutar  našeg  energetskog tela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Potrebno je pronaći načine za njegovanje naše duše prije nego se pojave problemi.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Važan dio osjećaja ispunjenosti je pronalaženje osjećaja smisla i svrhe svog života.  Mi smo sviskloni oklijevanju da napravimo zaokret ka potrazi za sopstvenom srećom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Suviše  često  beskonačno  odlažemo  stavljanje  stvari  na  svoje  mesto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Što  duže  oklevamo,  to  se  više  identifikujemo  sa  negativnim  stanjem  i  teže  ga  se  oslobađam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Samjuel Haneman- homeopatija, posebno popularna krajem 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18. </a:t>
            </a: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v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Efikasnost homeopatskih preparata objašnjava se činjenicom da su homeopatske bolnice sterilnije od drugih,  za razliku od doktora toga vremena koji su uglavnom činili štetu, homeopate nisu činili ništa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Odatle privid efikasnosti u poređenju sa potencijalno štetnim metodama toga vrem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U to vreme nije bilo moderne medicine ili naučne utemljenosti terap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Danas postoje objektivna merila efikasnosti lekova </a:t>
            </a:r>
            <a:r>
              <a:rPr b="0" lang="ru-RU" sz="3200" spc="-1" strike="noStrike" baseline="30000">
                <a:solidFill>
                  <a:srgbClr val="3366cc"/>
                </a:solidFill>
                <a:latin typeface="Arial"/>
              </a:rPr>
              <a:t>[14][1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ija 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čna disciplina kojoj je cilj da</a:t>
            </a: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 aktivira imuni sistem i podstakne prirodni kapacitet samoizlečenja i samoodbranu organiz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ska terapija ne potiskuje simptome kojima se tijelo trudi uspostaviti prirodnu ravnotež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ija otkriva i primjenjuje supstance koje su istovetne energiji tela, stoga je potrebna minimalna količina vitalne energije kako bi telo moglo da regauje na homeopatski tretman.</a:t>
            </a:r>
            <a:br>
              <a:rPr sz="2000"/>
            </a:b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555555"/>
                </a:solidFill>
                <a:latin typeface="Arial"/>
              </a:rPr>
              <a:t>Samuel Haneman</a:t>
            </a:r>
            <a:r>
              <a:rPr b="0" lang="sr-Latn-RS" sz="3800" spc="-1" strike="noStrike">
                <a:solidFill>
                  <a:srgbClr val="555555"/>
                </a:solidFill>
                <a:latin typeface="Arial"/>
              </a:rPr>
              <a:t>, </a:t>
            </a:r>
            <a:r>
              <a:rPr b="0" lang="en-GB" sz="3800" spc="-1" strike="noStrike">
                <a:solidFill>
                  <a:srgbClr val="555555"/>
                </a:solidFill>
                <a:latin typeface="Arial"/>
              </a:rPr>
              <a:t>Organon</a:t>
            </a:r>
            <a:r>
              <a:rPr b="0" lang="sr-Latn-RS" sz="3800" spc="-1" strike="noStrike">
                <a:solidFill>
                  <a:srgbClr val="555555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202122"/>
                </a:solidFill>
                <a:latin typeface="Arial"/>
              </a:rPr>
              <a:t>(1755—184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55555"/>
                </a:solidFill>
                <a:latin typeface="Arial"/>
              </a:rPr>
              <a:t>Simillimum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 (sličnost) – bolest se leči lekom koji izaziva simptome jednake bolesti</a:t>
            </a:r>
            <a:r>
              <a:rPr b="0" lang="sr-Latn-RS" sz="2000" spc="-1" strike="noStrike">
                <a:solidFill>
                  <a:srgbClr val="555555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bolest izaziva povišenu temperaturu prepisaće se lek koji pojačava temperaturu</a:t>
            </a:r>
            <a:r>
              <a:rPr b="0" lang="sr-Latn-RS" sz="2000" spc="-1" strike="noStrike">
                <a:solidFill>
                  <a:srgbClr val="555555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55555"/>
                </a:solidFill>
                <a:latin typeface="Arial"/>
              </a:rPr>
              <a:t>Dinamizacija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 (razređivanje) – rastvor se razređuje destilovanom vodom ili alkoholom</a:t>
            </a:r>
            <a:r>
              <a:rPr b="0" lang="sr-Latn-RS" sz="2000" spc="-1" strike="noStrike">
                <a:solidFill>
                  <a:srgbClr val="555555"/>
                </a:solidFill>
                <a:latin typeface="Arial"/>
              </a:rPr>
              <a:t>. A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ko je u pitanju tvrda stvar, laktozom u procesu zvanom trituracija. Odnos označava potenciju le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55555"/>
                </a:solidFill>
                <a:latin typeface="Arial"/>
              </a:rPr>
              <a:t>Sukusija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 (mešanje) – razređen</a:t>
            </a:r>
            <a:r>
              <a:rPr b="0" lang="sr-Latn-RS" sz="2000" spc="-1" strike="noStrike">
                <a:solidFill>
                  <a:srgbClr val="555555"/>
                </a:solidFill>
                <a:latin typeface="Arial"/>
              </a:rPr>
              <a:t>i r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astvor</a:t>
            </a:r>
            <a:r>
              <a:rPr b="0" lang="sr-Latn-RS" sz="2000" spc="-1" strike="noStrike">
                <a:solidFill>
                  <a:srgbClr val="555555"/>
                </a:solidFill>
                <a:latin typeface="Arial"/>
              </a:rPr>
              <a:t>i 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se mešaju velikim brzi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55555"/>
                </a:solidFill>
                <a:latin typeface="Arial"/>
              </a:rPr>
              <a:t>Holizam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 (celovitost) – homeopate posmatraju čoveka kao celinu i bolest shvataju kao stanje neravnoteže. Lekovima pokušavaju da uspostave ponovo energetsku ravnotežu – homeosta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555555"/>
                </a:solidFill>
                <a:latin typeface="Arial"/>
              </a:rPr>
              <a:t>dr. Constantine Hering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5555"/>
                </a:solidFill>
                <a:latin typeface="Arial"/>
              </a:rPr>
              <a:t>a) od gore prema dole</a:t>
            </a:r>
            <a:br>
              <a:rPr sz="3200"/>
            </a:br>
            <a:r>
              <a:rPr b="0" lang="en-GB" sz="3200" spc="-1" strike="noStrike">
                <a:solidFill>
                  <a:srgbClr val="555555"/>
                </a:solidFill>
                <a:latin typeface="Arial"/>
              </a:rPr>
              <a:t>b) iznutra ka spolja</a:t>
            </a:r>
            <a:br>
              <a:rPr sz="3200"/>
            </a:br>
            <a:r>
              <a:rPr b="0" lang="en-GB" sz="3200" spc="-1" strike="noStrike">
                <a:solidFill>
                  <a:srgbClr val="555555"/>
                </a:solidFill>
                <a:latin typeface="Arial"/>
              </a:rPr>
              <a:t>c) iz centra ka periferiji</a:t>
            </a:r>
            <a:br>
              <a:rPr sz="3200"/>
            </a:br>
            <a:r>
              <a:rPr b="0" lang="en-GB" sz="3200" spc="-1" strike="noStrike">
                <a:solidFill>
                  <a:srgbClr val="555555"/>
                </a:solidFill>
                <a:latin typeface="Arial"/>
              </a:rPr>
              <a:t>d) od važnijih prema manje važnim organima </a:t>
            </a:r>
            <a:br>
              <a:rPr sz="3200"/>
            </a:br>
            <a:r>
              <a:rPr b="0" lang="en-GB" sz="3200" spc="-1" strike="noStrike">
                <a:solidFill>
                  <a:srgbClr val="555555"/>
                </a:solidFill>
                <a:latin typeface="Arial"/>
              </a:rPr>
              <a:t>e) u obrnutom redosledu od njihovog nastanka (simpt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ski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rati 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za različite tegobe mogu se po potrebi koristiti zajed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ija koristi prirodne sastojke biljnog, mineralnog i životinjskog 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, 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a mogu se koristiti i supstance biološkog i mikrobiološkog 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Kako homeopatija delu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Filozofija </a:t>
            </a: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homeopatije- </a:t>
            </a: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um, telo i emocije nisu razdvoje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Svako iskustvo koje smo imali može ostaviti trag u telu ili emotivnoj sfe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Homeopatski proces </a:t>
            </a: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počinje razgovorom u kom homeopata postavlja veliki broj pitanja kako bi dobio kompletnu sliku onoga što se događa u telu pacijenta, kako na mentalnom, tako i na telesnom planu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17:33:49Z</dcterms:created>
  <dc:creator>user</dc:creator>
  <dc:description/>
  <dc:language>en-US</dc:language>
  <cp:lastModifiedBy>Dragana Ignjatovic Ristic</cp:lastModifiedBy>
  <dcterms:modified xsi:type="dcterms:W3CDTF">2023-12-03T19:55:45Z</dcterms:modified>
  <cp:revision>11</cp:revision>
  <dc:subject/>
  <dc:title>Anamneza i klinička slika u homeopatiji</dc:title>
</cp:coreProperties>
</file>